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9.jpeg" ContentType="image/jpeg"/>
  <Override PartName="/ppt/media/image11.jpeg" ContentType="image/jpeg"/>
  <Override PartName="/ppt/media/image7.wmf" ContentType="image/x-wmf"/>
  <Override PartName="/ppt/media/image20.jpeg" ContentType="image/jpeg"/>
  <Override PartName="/ppt/media/image6.jpeg" ContentType="image/jpeg"/>
  <Override PartName="/ppt/media/image19.wmf" ContentType="image/x-wmf"/>
  <Override PartName="/ppt/media/image17.jpeg" ContentType="image/jpeg"/>
  <Override PartName="/ppt/media/image16.jpeg" ContentType="image/jpeg"/>
  <Override PartName="/ppt/media/image14.wmf" ContentType="image/x-wmf"/>
  <Override PartName="/ppt/media/image1.jpeg" ContentType="image/jpeg"/>
  <Override PartName="/ppt/media/image4.wmf" ContentType="image/x-wmf"/>
  <Override PartName="/ppt/media/image2.jpeg" ContentType="image/jpeg"/>
  <Override PartName="/ppt/media/image15.jpeg" ContentType="image/jpeg"/>
  <Override PartName="/ppt/media/image3.wmf" ContentType="image/x-wmf"/>
  <Override PartName="/ppt/media/image13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1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FEB36-3977-4664-80C8-640EB26BAF89}" type="slidenum"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99929-C934-4F27-9C4A-76CBD89CC37F}" type="slidenum"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99A7E-2C4E-4B31-A59A-BCCB760A3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5AE2F-8715-49D4-859C-4771A3056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6F1E0-03A2-4E9D-9DC7-B3440B00C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F43AF-AD4E-4056-89A8-4720D73C5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0C697-9DE0-4B6C-A97B-925076356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72C7F-B68B-42F5-958E-6BD479356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C421D-43DC-458A-9C2A-97DBDD1D4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958DA-0168-4CAA-B93B-5B83B426E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56A48-96F3-4326-A610-CD6C755AA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93779-C0D5-417D-9F2A-AE3C36E43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5D4D1-85C2-441F-9888-7A6522A33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BFE4B-523D-41E1-A274-30D1ACCC3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C585D-BF5A-4592-AB43-AADD9D1232DF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wmf"/><Relationship Id="rId4" Type="http://schemas.openxmlformats.org/officeDocument/2006/relationships/image" Target="../media/image19.wmf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7" descr="C:\Documents and Settings\lsabey\Local Settings\Temporary Internet Files\Content.IE5\NC28D29Z\MPj04053960000[1].jpg"/>
          <p:cNvPicPr/>
          <p:nvPr/>
        </p:nvPicPr>
        <p:blipFill>
          <a:blip r:embed="rId1"/>
          <a:stretch/>
        </p:blipFill>
        <p:spPr>
          <a:xfrm>
            <a:off x="1752480" y="2286000"/>
            <a:ext cx="6400800" cy="4572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ja-JP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我</a:t>
            </a:r>
            <a:r>
              <a:rPr b="0" lang="ja-JP" sz="4400" spc="-1" strike="noStrike">
                <a:solidFill>
                  <a:srgbClr val="ff0000"/>
                </a:solidFill>
                <a:latin typeface="Calibri"/>
                <a:ea typeface="ＭＳ Ｐゴシック"/>
              </a:rPr>
              <a:t>喜欢每</a:t>
            </a:r>
            <a:r>
              <a:rPr b="0" lang="ja-JP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一个月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 like every month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29528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898989"/>
              </a:solidFill>
              <a:latin typeface="Calibri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九月有收获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【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hōuhuò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】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arv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2" descr="C:\Documents and Settings\lsabey\Local Settings\Temporary Internet Files\Content.IE5\FZQK8WK2\MPj04387180000[1].jpg"/>
          <p:cNvPicPr/>
          <p:nvPr/>
        </p:nvPicPr>
        <p:blipFill>
          <a:blip r:embed="rId1"/>
          <a:stretch/>
        </p:blipFill>
        <p:spPr>
          <a:xfrm>
            <a:off x="1828800" y="1592280"/>
            <a:ext cx="6156360" cy="41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十月</a:t>
            </a:r>
            <a:r>
              <a:rPr b="0" lang="ja-JP" sz="4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有万圣节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ànshèngjié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】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2" descr="C:\Documents and Settings\lsabey\Local Settings\Temporary Internet Files\Content.IE5\UIWGF83Q\MPj04387500000[1].jpg"/>
          <p:cNvPicPr/>
          <p:nvPr/>
        </p:nvPicPr>
        <p:blipFill>
          <a:blip r:embed="rId1"/>
          <a:stretch/>
        </p:blipFill>
        <p:spPr>
          <a:xfrm>
            <a:off x="1752480" y="167652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十</a:t>
            </a:r>
            <a:r>
              <a:rPr b="0" lang="ja-JP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一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月</a:t>
            </a:r>
            <a:r>
              <a:rPr b="0" lang="ja-JP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有感恩节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【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ǎnēnjié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】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3" descr="C:\Documents and Settings\lsabey\Local Settings\Temporary Internet Files\Content.IE5\29Y32KFX\MCj04110870000[1].wmf"/>
          <p:cNvPicPr/>
          <p:nvPr/>
        </p:nvPicPr>
        <p:blipFill>
          <a:blip r:embed="rId1"/>
          <a:stretch/>
        </p:blipFill>
        <p:spPr>
          <a:xfrm>
            <a:off x="1828800" y="2514600"/>
            <a:ext cx="5791320" cy="34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十二月有圣诞节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【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hèngdànjié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】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2" descr="C:\Documents and Settings\lsabey\Local Settings\Temporary Internet Files\Content.IE5\29Y32KFX\MPj04402810000[1].jpg"/>
          <p:cNvPicPr/>
          <p:nvPr/>
        </p:nvPicPr>
        <p:blipFill>
          <a:blip r:embed="rId1"/>
          <a:stretch/>
        </p:blipFill>
        <p:spPr>
          <a:xfrm>
            <a:off x="3048120" y="1143000"/>
            <a:ext cx="3581280" cy="537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Calibri"/>
                <a:ea typeface="宋体"/>
              </a:rPr>
              <a:t>我喜欢每</a:t>
            </a:r>
            <a:r>
              <a:rPr b="0" lang="zh-CN" sz="4400" spc="-1" strike="noStrike">
                <a:solidFill>
                  <a:srgbClr val="000000"/>
                </a:solidFill>
                <a:latin typeface="Calibri"/>
                <a:ea typeface="宋体"/>
              </a:rPr>
              <a:t>一个月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宋体"/>
              </a:rPr>
              <a:t>I like every month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2" descr="C:\Documents and Settings\lsabey\Local Settings\Temporary Internet Files\Content.IE5\UIWGF83Q\MPj04393360000[1].jpg"/>
          <p:cNvPicPr/>
          <p:nvPr/>
        </p:nvPicPr>
        <p:blipFill>
          <a:blip r:embed="rId1"/>
          <a:stretch/>
        </p:blipFill>
        <p:spPr>
          <a:xfrm>
            <a:off x="3200400" y="1600200"/>
            <a:ext cx="3005280" cy="45259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5" descr="C:\Documents and Settings\lsabey\Local Settings\Temporary Internet Files\Content.IE5\29Y32KFX\MPj04402860000[1].jpg"/>
          <p:cNvPicPr/>
          <p:nvPr/>
        </p:nvPicPr>
        <p:blipFill>
          <a:blip r:embed="rId2"/>
          <a:stretch/>
        </p:blipFill>
        <p:spPr>
          <a:xfrm>
            <a:off x="1752480" y="1447920"/>
            <a:ext cx="1830600" cy="13222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6" descr="C:\Program Files\Microsoft Office\MEDIA\CAGCAT10\j0293828.wmf"/>
          <p:cNvPicPr/>
          <p:nvPr/>
        </p:nvPicPr>
        <p:blipFill>
          <a:blip r:embed="rId3"/>
          <a:stretch/>
        </p:blipFill>
        <p:spPr>
          <a:xfrm>
            <a:off x="6019920" y="1371600"/>
            <a:ext cx="1744560" cy="18367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" descr="C:\Program Files\Microsoft Office\MEDIA\CAGCAT10\j0233312.wmf"/>
          <p:cNvPicPr/>
          <p:nvPr/>
        </p:nvPicPr>
        <p:blipFill>
          <a:blip r:embed="rId4"/>
          <a:stretch/>
        </p:blipFill>
        <p:spPr>
          <a:xfrm>
            <a:off x="6781680" y="3654360"/>
            <a:ext cx="2076480" cy="21160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9" descr="C:\Documents and Settings\lsabey\Local Settings\Temporary Internet Files\Content.IE5\UIWGF83Q\MPj04389130000[1].jpg"/>
          <p:cNvPicPr/>
          <p:nvPr/>
        </p:nvPicPr>
        <p:blipFill>
          <a:blip r:embed="rId5"/>
          <a:stretch/>
        </p:blipFill>
        <p:spPr>
          <a:xfrm>
            <a:off x="380880" y="4191120"/>
            <a:ext cx="2362320" cy="15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ja-JP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一月有新年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【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xīnnián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】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ew Year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C:\Documents and Settings\lsabey\Local Settings\Temporary Internet Files\Content.IE5\FZQK8WK2\MPj04393580000[1].jpg"/>
          <p:cNvPicPr/>
          <p:nvPr/>
        </p:nvPicPr>
        <p:blipFill>
          <a:blip r:embed="rId1"/>
          <a:stretch/>
        </p:blipFill>
        <p:spPr>
          <a:xfrm>
            <a:off x="1631880" y="1600200"/>
            <a:ext cx="58802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二月有总统节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【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zǒngtǒngjié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】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4" descr="C:\Documents and Settings\lsabey\Local Settings\Temporary Internet Files\Content.IE5\FZQK8WK2\MCj01498810000[1].wmf"/>
          <p:cNvPicPr/>
          <p:nvPr/>
        </p:nvPicPr>
        <p:blipFill>
          <a:blip r:embed="rId1"/>
          <a:stretch/>
        </p:blipFill>
        <p:spPr>
          <a:xfrm>
            <a:off x="4219560" y="2057400"/>
            <a:ext cx="4467240" cy="33876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" descr="C:\Documents and Settings\lsabey\Local Settings\Temporary Internet Files\Content.IE5\NC28D29Z\MCj01500530000[1].wmf"/>
          <p:cNvPicPr/>
          <p:nvPr/>
        </p:nvPicPr>
        <p:blipFill>
          <a:blip r:embed="rId2"/>
          <a:stretch/>
        </p:blipFill>
        <p:spPr>
          <a:xfrm>
            <a:off x="838080" y="1219320"/>
            <a:ext cx="3353040" cy="487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三月有春天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【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ūntiān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】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pring;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4" descr="C:\Documents and Settings\lsabey\Local Settings\Temporary Internet Files\Content.IE5\FZQK8WK2\MPj04387350000[1].jpg"/>
          <p:cNvPicPr/>
          <p:nvPr/>
        </p:nvPicPr>
        <p:blipFill>
          <a:blip r:embed="rId1"/>
          <a:stretch/>
        </p:blipFill>
        <p:spPr>
          <a:xfrm>
            <a:off x="2438280" y="1295280"/>
            <a:ext cx="4343400" cy="502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3" descr="C:\Documents and Settings\lsabey\Local Settings\Temporary Internet Files\Content.IE5\NC28D29Z\MPj04385820000[1].jpg"/>
          <p:cNvPicPr/>
          <p:nvPr/>
        </p:nvPicPr>
        <p:blipFill>
          <a:blip r:embed="rId1"/>
          <a:stretch/>
        </p:blipFill>
        <p:spPr>
          <a:xfrm>
            <a:off x="4114800" y="4191120"/>
            <a:ext cx="2743200" cy="183168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四月有复活节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【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ùhuójié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】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" descr="C:\Program Files\Microsoft Office\MEDIA\CAGCAT10\j0304933.wmf"/>
          <p:cNvPicPr/>
          <p:nvPr/>
        </p:nvPicPr>
        <p:blipFill>
          <a:blip r:embed="rId2"/>
          <a:stretch/>
        </p:blipFill>
        <p:spPr>
          <a:xfrm>
            <a:off x="1905120" y="2209680"/>
            <a:ext cx="4297320" cy="28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ja-JP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五月有母亲节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【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ǔqīnjié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】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ther's Day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C:\Documents and Settings\lsabey\Local Settings\Temporary Internet Files\Content.IE5\FZQK8WK2\MPj04387990000[1].jpg"/>
          <p:cNvPicPr/>
          <p:nvPr/>
        </p:nvPicPr>
        <p:blipFill>
          <a:blip r:embed="rId1"/>
          <a:stretch/>
        </p:blipFill>
        <p:spPr>
          <a:xfrm>
            <a:off x="3124080" y="1523880"/>
            <a:ext cx="299736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ja-JP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六月有父亲节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【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ùqinjié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】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ather‘s Day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2" descr="C:\Documents and Settings\lsabey\Local Settings\Temporary Internet Files\Content.IE5\NC28D29Z\MPj04387110000[1].jpg"/>
          <p:cNvPicPr/>
          <p:nvPr/>
        </p:nvPicPr>
        <p:blipFill>
          <a:blip r:embed="rId1"/>
          <a:stretch/>
        </p:blipFill>
        <p:spPr>
          <a:xfrm>
            <a:off x="1752480" y="1541520"/>
            <a:ext cx="6232680" cy="45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38188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七月有</a:t>
            </a:r>
            <a:br>
              <a:rPr sz="4000"/>
            </a:br>
            <a:r>
              <a:rPr b="0" lang="ja-JP" sz="4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国庆节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【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guoqing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jié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】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宋体"/>
              </a:rPr>
              <a:t>Independence Da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2" descr="C:\Documents and Settings\lsabey\Local Settings\Temporary Internet Files\Content.IE5\29Y32KFX\MPj04392510000[1].jpg"/>
          <p:cNvPicPr/>
          <p:nvPr/>
        </p:nvPicPr>
        <p:blipFill>
          <a:blip r:embed="rId1"/>
          <a:stretch/>
        </p:blipFill>
        <p:spPr>
          <a:xfrm>
            <a:off x="2438280" y="1606680"/>
            <a:ext cx="4724640" cy="48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lang="ja-JP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八月</a:t>
            </a:r>
            <a:r>
              <a:rPr b="0" lang="ja-JP" sz="4400" spc="-1" strike="noStrike">
                <a:solidFill>
                  <a:srgbClr val="ff0000"/>
                </a:solidFill>
                <a:latin typeface="Calibri"/>
                <a:ea typeface="ＭＳ Ｐゴシック"/>
              </a:rPr>
              <a:t>学生上课</a:t>
            </a:r>
            <a:br>
              <a:rPr sz="4400"/>
            </a:br>
            <a:r>
              <a:rPr b="0" lang="ja-JP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十一月上学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【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hàngxué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】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38088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C:\Documents and Settings\lsabey\Local Settings\Temporary Internet Files\Content.IE5\NC28D29Z\MPj04393190000[1].jpg"/>
          <p:cNvPicPr/>
          <p:nvPr/>
        </p:nvPicPr>
        <p:blipFill>
          <a:blip r:embed="rId1"/>
          <a:stretch/>
        </p:blipFill>
        <p:spPr>
          <a:xfrm>
            <a:off x="2362320" y="1484280"/>
            <a:ext cx="5029200" cy="47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9T19:26:53Z</dcterms:created>
  <dc:creator>itsuser</dc:creator>
  <dc:description/>
  <dc:language>en-US</dc:language>
  <cp:lastModifiedBy>itsuser</cp:lastModifiedBy>
  <dcterms:modified xsi:type="dcterms:W3CDTF">2009-03-17T18:01:01Z</dcterms:modified>
  <cp:revision>25</cp:revision>
  <dc:subject/>
  <dc:title>Months</dc:title>
</cp:coreProperties>
</file>